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55A-E5B2-49E1-9D46-76AFD88A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618-0DA2-40C5-90BF-017C943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820-3525-4596-B4E9-0CF33939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BA1-86CD-4D4B-8A62-E66C870B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0BEF-45C0-43F3-8076-3B971DA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EB1D-865B-4135-BE8E-084A780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D20-334E-4C80-A2D4-C7EA531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C22-9085-4665-9DE8-8759497C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252-ACD2-439E-B656-64F848B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96CD-C3DF-4CA0-8DE1-15FA9E40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C744-8B7C-4A15-B1D2-7EF8B7E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50E-85A5-4A9B-AAF8-9F35E6B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B935-9198-4DAE-932F-611BC3C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57BA-6191-4541-93E6-A89D0F65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E9B2-19CA-4880-BFF6-5D03EF9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122A-B567-4D39-AE5B-ADC3CDBE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2119-79AC-43F8-A7D2-C0F47964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1DD-ABC1-47E4-AA8B-AE85EEE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0E2-1D6F-4871-B208-3F58840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707-7DF6-4E03-AB7B-13397A0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D2D-30E4-4DE8-8120-4352944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BB4-7D49-4560-9577-F495A613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1D9-645A-4DA8-92D7-E6C0318C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7D1-2E53-4582-8271-0C96C3B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41A-1B06-4AAE-978D-2D8475098F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AAEC-11D5-46C0-9389-3314E3BDEF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in the walls of blood vess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around hollow org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ch as the urinary bl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 in layers around the respiratory, circulatory, digestive and reproductive tr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all and slender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ually tapers to a point at each 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ell has 1 nucle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bers are scattered throughout the 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go…NO STRIATION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divide eas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generate after inj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contract on their own or triggered by neural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usually triggered by neural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KA non-striated involuntary mus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mooth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scles at a glance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280" y="609480"/>
          <a:ext cx="8763120" cy="5538960"/>
        </p:xfrm>
        <a:graphic>
          <a:graphicData uri="http://schemas.openxmlformats.org/drawingml/2006/table">
            <a:tbl>
              <a:tblPr/>
              <a:tblGrid>
                <a:gridCol w="1676520"/>
                <a:gridCol w="2438280"/>
                <a:gridCol w="2057400"/>
                <a:gridCol w="259092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c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el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ng, cylindrical, striated, multinuclea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bined with connective tissue and neural tiss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ves skeleton, guards entrances and exits to systems (sphincters), generates heat, protects internal orga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dia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rt, branched, striated, single nucleus, connected by intercalating dis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ar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rculates blood, maintains blood pressur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moo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rt, spindle shaped, non-striated, single central nucle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und around walls of vessels, digestive, respiratory, urinary &amp; reproductive organ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ves food, urine, secretions, controls diameter of respiratory passages &amp; blood vessel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905120" y="1295280"/>
            <a:ext cx="2133360" cy="1143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295280"/>
            <a:ext cx="1905120" cy="1295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295280"/>
            <a:ext cx="2362320" cy="17528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200400"/>
            <a:ext cx="2286000" cy="9907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343400"/>
            <a:ext cx="1904760" cy="1295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200400"/>
            <a:ext cx="1752840" cy="8380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4267080"/>
            <a:ext cx="1905120" cy="1905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00400"/>
            <a:ext cx="2133720" cy="1066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4343400"/>
            <a:ext cx="2286000" cy="1447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 to 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les directly or indirectly attached to the skelet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roximately 700 muscles (not to worry, you won’t need to know all of th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basic fun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 movement in the skele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actions pull on tendons; thus move b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y be simple or complex m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posture and body pos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ous muscle contractions maintain body pos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out it, we would topple o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 Soft Tiss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dominal wall and floor of pelvic ca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ort and shie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uard entrances and ex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ircular muscles (sphincters) are the openings and closings of the digestive and urinary tra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 voluntary control over swallowing, defecating, urin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body tempera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action requires energy; use of energy is 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king muscles keeps the body temperature in the normal functioning r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oss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ell is called a muscle fi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layers of connective tiss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i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yer of collagen that separates the muscle from surrounding tissue and org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i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vides the muscle into bundles of fibers called fasci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so has blood vessels and ner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oss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nective Tissues con’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omysi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rrounds each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 the end of the muscle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lagen at all three layers bundle together to form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end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form a broad sheet called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poneur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dons connect skeletal muscle to b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oneuroses connect skeletal muscles to other skeletal mus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basic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cles contr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olves 2 fibers: actin and myos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types of muscle t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ele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dia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moo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raction for all three is the s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 of the actin and myosin differs, which makes the types of muscles diff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lood Vessels and Nerv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pimysium and perimysium provide the passage for blood vessels and ner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the pic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the pict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58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in muscle contra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ulse reaches synaptic bul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nter bul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sicles migrate to cell membr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sicle fuses with cell membr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etylcholine (ACh) released into synaptic cle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in Muscle Contra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h diffuses across synaptic cle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h binds to receptor proteins on motor end p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or end plate depolariz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gener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533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eps at the Cellular lev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or end plate depolariz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gener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ion potential mo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ong sarcolem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wn transverse tubu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o sarcoplasmic reticul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leased from sarcoplasmic reticul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96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029200" cy="50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752480" y="4191120"/>
            <a:ext cx="55627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3768840" cy="2654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38862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in very large, multinucleated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y long and sle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ells are often called muscle fi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apable of divi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fibers are formed from stem ce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ial repairs can occ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e to the organization of actin and myosin fibers, the skeletal muscle appear marked with a series of bands (striations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el and Col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09480" y="3697200"/>
            <a:ext cx="3429000" cy="2847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733920" y="1658880"/>
            <a:ext cx="5029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ract only if stimulated by a nerve impul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traction is voluntar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KA striated voluntary musc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keletal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3323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800600" y="2057400"/>
            <a:ext cx="2590560" cy="398880"/>
            <a:chOff x="4800600" y="2057400"/>
            <a:chExt cx="2590560" cy="398880"/>
          </a:xfrm>
        </p:grpSpPr>
        <p:sp>
          <p:nvSpPr>
            <p:cNvPr id="171" name=""/>
            <p:cNvSpPr/>
            <p:nvPr/>
          </p:nvSpPr>
          <p:spPr>
            <a:xfrm>
              <a:off x="4800600" y="228600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9560" y="20574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24080" y="2819520"/>
            <a:ext cx="2514600" cy="457200"/>
            <a:chOff x="3124080" y="2819520"/>
            <a:chExt cx="2514600" cy="457200"/>
          </a:xfrm>
        </p:grpSpPr>
        <p:sp>
          <p:nvSpPr>
            <p:cNvPr id="174" name=""/>
            <p:cNvSpPr/>
            <p:nvPr/>
          </p:nvSpPr>
          <p:spPr>
            <a:xfrm>
              <a:off x="3124080" y="28195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31240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2767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148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ri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295280" y="205740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38080" y="1219320"/>
            <a:ext cx="888120" cy="4495680"/>
            <a:chOff x="838080" y="1219320"/>
            <a:chExt cx="888120" cy="4495680"/>
          </a:xfrm>
        </p:grpSpPr>
        <p:sp>
          <p:nvSpPr>
            <p:cNvPr id="181" name=""/>
            <p:cNvSpPr/>
            <p:nvPr/>
          </p:nvSpPr>
          <p:spPr>
            <a:xfrm flipV="1">
              <a:off x="838080" y="1219320"/>
              <a:ext cx="533520" cy="449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7200">
              <a:off x="1201320" y="2055600"/>
              <a:ext cx="3808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nd only in the HEA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riated, but cells are much smaller and only has 1 nucleu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nected to each other by intercalating dis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ed to form a network of efficient con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ves the force and stimulus from one area to another of the he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ed ability to repair itself; lack of stem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cardiac cells can divide after inj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airs are incomple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rely on nerve impul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specialized pacemaker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 a regular rate of cont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rvous system can alter the pacemaker cells, but no voluntary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KA striated involuntary mus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rdiac Mus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53514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648320" y="2666880"/>
            <a:ext cx="2438280" cy="1067040"/>
            <a:chOff x="4648320" y="2666880"/>
            <a:chExt cx="2438280" cy="1067040"/>
          </a:xfrm>
        </p:grpSpPr>
        <p:sp>
          <p:nvSpPr>
            <p:cNvPr id="192" name=""/>
            <p:cNvSpPr/>
            <p:nvPr/>
          </p:nvSpPr>
          <p:spPr>
            <a:xfrm>
              <a:off x="5105520" y="2666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648320" y="2743200"/>
              <a:ext cx="83808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09480" y="4191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lating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4080" y="2286000"/>
            <a:ext cx="1447920" cy="838080"/>
            <a:chOff x="3124080" y="2286000"/>
            <a:chExt cx="1447920" cy="838080"/>
          </a:xfrm>
        </p:grpSpPr>
        <p:sp>
          <p:nvSpPr>
            <p:cNvPr id="196" name=""/>
            <p:cNvSpPr/>
            <p:nvPr/>
          </p:nvSpPr>
          <p:spPr>
            <a:xfrm>
              <a:off x="365760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520" y="25909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408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ri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0:12:06Z</dcterms:created>
  <dc:creator>Rich South</dc:creator>
  <dc:description/>
  <dc:language>en-US</dc:language>
  <cp:lastModifiedBy>Rich South</cp:lastModifiedBy>
  <dcterms:modified xsi:type="dcterms:W3CDTF">2007-03-15T13:54:39Z</dcterms:modified>
  <cp:revision>14</cp:revision>
  <dc:subject/>
  <dc:title>Mus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